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9775-B74A-4611-A1C4-75C343D7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9769-EF32-4C53-B549-ECC44D12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F7D2A-BD11-423D-A5E4-EC7FBA15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853AC-E048-4817-9B74-5707F2E3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EAB2C-422A-4012-9AFB-14C2F916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060BD-0C74-499E-8753-B124C876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15FB1-AC67-4BF9-9A07-B877792A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88D1A-53F0-4182-B846-632D0C28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9EDEC-BC30-4756-97DC-191FFE07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CC730-99F9-42A9-B5E1-91BA9D3E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0E46C-BAA8-4D7A-AC09-EDE5B8EB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2E076-15A4-4024-B787-0D182FF2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44A-F662-4DFC-BB23-946D95F1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794A3-A4C3-46DD-B639-3CE84B71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C3B03-504D-470B-AC4D-AF178C77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D6D92-C3E1-4B33-973C-1E4D3F6F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E70C2-9ECB-4AE6-8D3C-36E722AD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3EB0E-4FE7-4D77-B455-79D4B836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1D36F-1CE6-478C-95DE-E619ADE1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1D9E5-FC7A-47FE-A789-D49CC635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DC883-FE77-422D-AA2F-63656906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06076-7B54-4E0F-AE8F-F40A6BEF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0847C-E443-4A35-863E-33950A23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738-B067-4F9E-9603-6A1B02FE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23252-8391-473A-9ED9-0D771468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CCDCB-3D26-4CB1-BC42-5B6B22A1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0EC06-2340-4ED8-A45C-B4AE4E62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5774D-C8E5-4133-9044-9C6A34A7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AE8B5-D786-43BD-B955-A74D4B80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6D7E1-AAE6-4D8F-BDC3-4289A472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C67A7-1FF5-4921-A1BB-C35CEAEC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44893-CB81-4C98-9BAA-88AD5AB8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BAED3-84EA-46FD-BF35-420A5660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E80B4-B1FD-4BE4-8312-35B22C95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327B-4238-424F-B2F5-ADB71D1F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CCE1A-AD26-4331-9E67-401CD742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78BB8-0DEB-4D56-82EB-AC616D89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F54C9-34A1-4C07-901B-C83F5D7F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87A56-80BD-4979-976C-DAE56D73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3C421-3A60-4F26-B809-384C5458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B6E1C-62B2-4036-8AC0-8D93652B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BD96B-CD78-4439-8FE2-A29F4164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17D55-EEE5-4CF9-A78D-31E24EC7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0C89B-4367-41B3-9B96-EA94B6D2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F76CC-78F7-4A0D-8975-E44845E3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B727-C1FC-4492-992D-2785648C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D4A4F-F5D2-4856-8394-BB3AC1CE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30B80-6B6A-4E73-9EC5-E75F5741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F9B02-93CA-451F-B9EA-1F874FD0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D019D-6C15-4CFE-B95E-B9CD587A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242A6-0500-4ECC-B4B0-A1C53E87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498A-3146-452E-B3D7-C69C9595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C956-DFC8-4A0C-9E1C-135027CF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5625-B582-4FFC-87B7-EB52D0BB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562B-8A0F-4750-9F4C-3FED59E0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FAD7-D2FB-4E53-985E-CBAA3406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BA0-88F8-4C6D-801A-5F50B7AA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4438-DF64-4BA3-A5F3-BE5C0B75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DD46-DA90-41E0-BD59-33E0BEEB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4FF5-CD89-4983-B0D7-B4DECB6F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6D77-40A8-4468-A9E1-C0C4E15F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1D95-2216-4802-ACC7-97378596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D5CA9-82CD-41F7-9D48-BD67334B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6ACB3-DB6F-42F3-96DA-24073933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62664-BB55-4FA5-9539-F88D8EA0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2F7B1-E334-42AB-81D8-950E780B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E1C40-9C89-4ECF-A5DA-61A0F45E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514C-C469-4907-AC04-CA3A86EA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950EE-A347-4488-A1B1-9318A942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F9C44-557B-4993-A8BA-109BCDFB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8E6A1-681D-4BF4-8F39-841EA5B0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A65EF-D442-49A9-82B5-53D11879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13F29-0716-4CAA-80B7-1C8A30BD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39458-E2AC-4445-B8A0-A7F9FC36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B52D3-0945-4F82-B5CF-63729644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61544-1B72-49A9-8FCC-44F43429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1CCC2-1C05-40B3-99D9-3F296A9A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2C19A-1DDB-483D-83C1-164572CE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F482-111A-47C0-AF21-8A70CF8F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689EB-F4DF-4DEC-9C4D-0C696E0F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49225-6C78-47CB-8F59-921B9643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7AB76-20FB-4BFD-8C19-B11593DF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2D9AC-C8CF-48E3-8BBA-A8478EEF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D322F-C05C-498E-85E1-FCFF4064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D8D2C-97E9-4C92-A894-BB417866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412FE-7BEA-463F-9B66-81E0D1F6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DE705-D056-463B-9A5C-D17FC3F9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B26A1-3198-4F52-8440-D838F972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F5A1C-3CA2-4570-BC31-FFE29DF6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DC7-567B-43EE-B68C-3A158BC0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47600-6231-474F-909E-88B0CFA0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D16EC-92A3-4627-99A1-9C267348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A46C9-AEC5-45E3-8A52-E33E7E54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EFB65-9671-4A6F-805D-6659F0DB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CD065-DB2A-4891-B98A-399BA222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F702F-C591-4795-B4BD-EDDA82F8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25792-0B8E-4E6B-84F6-4113BD16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B0304-C8C4-43B9-9415-4F1ACEDF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D874F-4EE1-43DA-82C0-65C3A4EC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3451E-2A09-47F4-BB7C-3174832B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6ADC-352F-424E-9A4A-8F9BE3D3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C3045-5E48-4038-9125-1BB47930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C1C97-CF50-4BAC-B585-6709739A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70747-ABBF-49F7-A4E8-3271E802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3C53B-AF52-482E-837B-E94E2C3A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06749-2E22-465A-A8C1-FCBA691B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B4C51-EDB8-4ECB-9DEB-7CF13345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49443-CC9E-43AE-8756-742DEA66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48CA8-12FA-412E-95DC-8A981823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BA54C-9E07-448C-BE39-1AB8F6C9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7A0E6-A246-4E07-A979-8D6114B0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1CCB-A114-4B67-84B3-44D52765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161AF-2DC1-41C0-8005-B32E9B7B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C9AE0-0752-412B-B139-EFB8E1BC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0333E-C7EF-491B-9306-29AAB6C5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2E2D4-4EDB-4607-AF74-5D2987DB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7EE29-3603-40BA-8F17-17346641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BA284-44F6-40F8-AD50-29A15403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D1459-2F07-43AE-8B9E-84FBB7BC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5992D-BBAC-4C39-85BB-792F3AE5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20A14-44A6-4B1E-9BDA-9F4AC5B1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BD5D0-9F0F-4E33-9C66-A3AFDCDD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0C4E-AAA6-4ABF-B778-9ED5DA9E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98802-5B50-4416-AB6A-58D587D7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AEFDF-9253-4B74-8045-C522ECCF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F26E6-6690-4364-A771-C2D10EEB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058AC-658F-4916-AA1F-CBBD4EC5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E93D5-1015-4E8E-B61C-8466471B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A55D9-35E8-4962-9D92-8538F821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CFA01-061B-420F-A780-4F7AD16E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D95F7-ED1C-4993-AC06-E31F29B5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FDB6D-B7CE-4614-A3CF-FBE73FDC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70380-777C-4D2A-927F-B7A03CAA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38C-87C2-4855-ABAD-72C59EEA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FF469-6656-4650-B7F8-D0E415C4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BF596-3975-4785-ACA4-2F57DB09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398BF-711C-40F5-BBEE-4EDAD1E9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00FCF-9492-4C9D-AE9D-6D178E8C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49428-1851-4B0E-9425-A981C700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0165C-F67D-4F0A-A848-2AB424D5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15CCD-64D2-4C7B-8E70-F8595D30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FF03A-8490-4684-B478-A6980E68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03420-1814-4368-83CF-84FF71B5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2D25E-1E79-41F7-9037-6B9A5BDB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FB0E-2F11-4ECB-AFD6-FEE0AC435E4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2437-9540-4098-B70E-3AB00B076F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5B1A-DB2E-4E4C-A6DE-A06C4061863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BFA0-FB25-4172-9BE8-119285A166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0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D440-FDFF-4597-A34F-46641E32766D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7AD1-9905-464A-94D7-05FCDB401A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9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6402-D37B-43E4-96CC-479EFEED64C1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9602-4F0D-434D-A2B9-29658B2A34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9" name="Picture 18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B95A-F5A2-4DF4-9705-AD79A1EAE48C}" type="datetime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058920" y="6165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6D3A-9B32-4024-87DF-7B9643DF95C5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4AC4-E1CE-4229-93AF-DBEFBE39C4B4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CB02-42A9-4B49-822F-0E3D4D7074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D1C4-FE6B-4BBF-B2F1-24A547A5DF02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3587-CB59-407E-BE7D-38808CA191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B727-EE49-4B04-B4B3-F48F637C7B09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F815-5F07-4577-85BE-0A4DD5E837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EEFA-88C3-4C8F-9338-457F06C77173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1725-9FBF-4EAB-AED6-87B68B1D65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FA70-63FC-467B-A56E-EAEDE3DA02F4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2EBF-FBED-4445-91B7-02DF1A9CE8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9069-25B5-4A05-A06F-A0C433FB70D6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2399-39E8-4DF7-8940-798D9EAC93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ED4B-CBAC-4970-A2DF-1D635A430DB4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5151-C510-47AD-A976-A5DB43AEB8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cozlovaklara@csz.cz" TargetMode="Externa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0C1D-907C-4124-B27D-CDBA039EF908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8916-9046-4E91-9954-A174E5345DA1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87280" y="2421000"/>
            <a:ext cx="763128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odpora žen při vstupu na trh práce a odstraňování bariér – Středočeský kraj</a:t>
            </a: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CZ.1.04/3.4.04/26.00335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547280" y="4581360"/>
            <a:ext cx="60469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Tahoma"/>
              </a:rPr>
              <a:t>Klára Čmolíková Coz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Arial"/>
              </a:rPr>
              <a:t>Český svaz ž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A1E8-FE1D-44A7-A5B6-53DC1F838C6F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A751-D069-4A39-91F8-5EA8EFA2A24A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333399"/>
                </a:solidFill>
                <a:latin typeface="Arial"/>
              </a:rPr>
              <a:t>Díky za Vaši pozornost.</a:t>
            </a:r>
            <a:br>
              <a:rPr sz="4800"/>
            </a:br>
            <a:r>
              <a:rPr b="0" lang="cs-CZ" sz="4800" spc="-1" strike="noStrike">
                <a:solidFill>
                  <a:srgbClr val="333399"/>
                </a:solidFill>
                <a:latin typeface="Arial"/>
              </a:rPr>
              <a:t>Prostor pro dotaz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2050560" y="4066920"/>
            <a:ext cx="604548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cozlovaklara@csz.cz</a:t>
            </a:r>
            <a:r>
              <a:rPr b="0" lang="cs-CZ" sz="3200" spc="-1" strike="noStrike">
                <a:solidFill>
                  <a:srgbClr val="89898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2426-A9EB-4275-A3EA-9FA1EF07D0B7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175B-7F48-4FB3-9BDE-0968A72629EB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15640" y="1125000"/>
            <a:ext cx="77929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Struktura prezenta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í se na genderovou linii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řípravě projektové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ílení genderové rovnosti skrze projektové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raktické práci v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stavení projektů ČSŽ a jejich hlavních cíl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5D13-AB1D-405A-BBF7-5FBB55BCBEEE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Genderová rovnost v projektech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řípravě projektové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ž samotné tvoření výzev obsahuje či neobsahuje téma (vědomě či nevědomě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ční tým a cílové skupi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ílení genderové rovnosti skrze projektové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mé zaměření (zvyšování povědomí o rovnost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římé zaměření (zaměření se na rizikové skupiny a jejich posilován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raktické práci v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laví vadí či nevadí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y ženské skupin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žský prvek a genderové stereoty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E2D0-AF29-4453-A5B9-D9A9264C4F3D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5532-2A79-4CA6-B98C-61FBB9ACB838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80438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rojekty ČSŽ pro Středočeský kraj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pora žen při vstupu na trh práce a odstraňování bariér – Středočeský kraj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Z.1.04/3.4.04/26.0033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ý na genderovou lin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 posílit dovednosti na trhu práce CZ.1.04/3.3.05/31.0024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ý na znevýhodnění na základě věk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C6BB-8C86-4929-B8FC-69ED1106CC2B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AB3E-8E38-45CD-9694-731FA368C45C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7929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Podpora žen při vstupu na trh práce a odstraňování bariér – Středočeský kraj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ová skupina a její specif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zaměstnané ženy, registrované na ú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eny (muži), pečující o dítě do 15 let vě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ové aktivity pro cílovou skupi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ítačové kurzy (základní, nadstavbov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adenství (sociální, právní, psychologické, kariérov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cká genderová rov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íkendové školení aktivistek v prorodinné poli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ulaté stoly se zastupiteli a zastupitelka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Zaměření se na Středočeský kraj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1125000"/>
            <a:ext cx="404028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áno projektově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j. aktivity jsou poskytovány ve výjezdové formě (např. v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Klad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Mlad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Boleslav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Berou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říbra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etc.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le i v rámci Informačního a poradenského centra v Praze (poradenské a počítačové místnosti, zázemí projektu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649400" y="21463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Zástupný symbol pro zápatí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6. 6. 2011 Pragu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Zástupný symbol pro číslo snímku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6BA5-80CB-4924-AD30-92A95731CC49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rcRect l="15583" t="32889" r="36750" b="4591"/>
          <a:stretch/>
        </p:blipFill>
        <p:spPr>
          <a:xfrm>
            <a:off x="3995640" y="1341360"/>
            <a:ext cx="5148360" cy="532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2C7D-F46F-4391-A631-3BB20CC512C8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Zamě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68360" y="1700280"/>
            <a:ext cx="848664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raz na ženy, genderově senzitivní přís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lé skupinky, podpora vytvoření podpůrné skupiny, individuální přís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lně si být vědomé genderových stereotypů a předsudků, nepodporovat je naopak proti nim bojovat a zvědomovat je i uživatelká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ím cílem je posílení vlastních schopností uživatelek k překonání období nezaměstna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Zástupný symbol pro zápatí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Zástupný symbol pro číslo snímku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1C25-3582-4ABE-B993-C8499E3179D1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6A21-5BFF-4B99-96C7-905AB937D1F5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CE32-E2B8-4E71-A6EF-258650E96E89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15640" y="1077840"/>
            <a:ext cx="779292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Náš přístu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39280" y="1915920"/>
            <a:ext cx="819972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ividuální přístup nabízející adekvátní pomoc vzhledem ke konkrétní situaci uživatelky (včetně individuálního poradenství a vedení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silování uživatelek ve schopnosti odhalit různé druhy diskriminace a náležitě se proti nim bránit (včetně možnosti právního poradenství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skytnout znalosti a dovednosti k tomu, aby byly schopné uspět na trhu prá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napsat CV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četně průvodního dopisu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napsat motivační dop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komunikovat s potenciálním zaměstnavatelem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se připravit na přijímací řízení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5EC2-C974-41D5-88D2-A531950ADDB9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9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3A22-F292-426A-B041-92F0F7C8415C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15640" y="1190160"/>
            <a:ext cx="77929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Problé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es legislativní zakotvení diskriminace stále existuje ve všech oblastech života, včetně zaměstnání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Diskriminace je široce přijímána – jako prostý fakt, koncept diskriminace je brán za něco „doveženého“ a není pro nás témate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ěti diskriminace se často nebrání, ani soudně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Strach z výsledku a budoucnosti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ěti si nejsou jisté, jaký může mít případný soudní spor výsledek, soudní spory jsou náročné (časově, finančně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mají dostatečné informace (včetně průběhu a možností pomoci)</a:t>
            </a:r>
            <a:r>
              <a:rPr b="0" lang="cs-CZ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dostatečná informovanost o problematice je i v širší společnosti, bohužel i mezi profesionály a profesionálkam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utnost respektovat rozhodnutí uživatelk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07:06:48Z</dcterms:created>
  <dc:creator>Klára Cozlová</dc:creator>
  <dc:description/>
  <dc:language>en-US</dc:language>
  <cp:lastModifiedBy>prednaska</cp:lastModifiedBy>
  <dcterms:modified xsi:type="dcterms:W3CDTF">2011-07-27T08:04:11Z</dcterms:modified>
  <cp:revision>49</cp:revision>
  <dc:subject/>
  <dc:title>The position of seniors and people over 50 in Czech republic and advocacy services for discrimination victims</dc:title>
</cp:coreProperties>
</file>